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A69-7EEB-4360-A003-3C3DCE6D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B41-2E6B-4ABE-B0B0-3A496895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B47-3A1E-4886-A7F3-59A8CFE8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A28-1366-4117-99C0-FE755AB1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5DB6-8EAA-49A1-AFF5-A0A677EA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E16-6051-48E4-8231-F8DDDE23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542F-8A44-490D-AA99-0111C09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B9EA-435A-4E59-9593-DD4D8293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1A53-9157-45AF-933C-D666E0D2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8C40-E80E-408D-AEA2-C893B48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8027-D3AF-4DEA-9532-47284D56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052-036E-4879-93F6-01D8EFD2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E7EF-ADB9-483B-9FA1-D7D16E04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E447-E06B-4B49-BDF0-80038C3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F998-9C35-4AEA-9C73-6F9CDAAD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DED1-B03C-44FC-A56E-1CC66B2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A276-855C-45F6-9FF4-176F7EE8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253-9DE7-41B1-842D-A6312743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521-E551-4490-950B-C5735634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6C6-AB8E-4658-A5F4-648AA2E4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138-F9E8-42FF-B5AE-FFE7F35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481-B1D1-4968-A1F5-6BBBAF8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6B0-15D8-414A-B834-D35BDC1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1E1-1263-4C96-A6DF-CC28B1A6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6551-EC14-4479-9297-68824558BB1B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9E8-9D7D-496A-AC69-9689A9BACFA3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757080" y="836280"/>
            <a:ext cx="67816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Comic Sans MS"/>
              </a:rPr>
              <a:t>L’ ipert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2852640"/>
            <a:ext cx="640080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Che cos’ è un ipert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33cc"/>
                </a:solidFill>
                <a:latin typeface="Arial"/>
              </a:rPr>
              <a:t>Progettazione e realizzazione di              ipert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re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ntenuti sono scomposti con la massima fless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ha un numero variabile di collegamenti in entrata e in u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a volte può apparire dispersiva, ma l’ipertesto risulta ricco e v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2752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 due COMPONENTI di un ipertes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nodo: costituisce una unità di informazione autosufficiente e compiuta, e può corrispondere a meno di una pagina o a più p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link: viene attivato tramite mouse, ed è riconoscibile in quanto su di esso il cursore cambia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cc"/>
                </a:solidFill>
                <a:latin typeface="Arial"/>
              </a:rPr>
              <a:t>In breve, un buon ipertesto deve offrire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à di conte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eplicità di prec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licità di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Facciamo chiarezza su alcuni termini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testo: documento mono-mediale 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ltimediale: elaboratore in grado di gestire elementi testuali e 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permedia: documento con elementi multimediali e non sequenz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attivo: software che consente di ottenere risposte rap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ipertesto segue lo stesso processo del nostro pensiero: riflettiam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684072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 un’idea su un argomento ne nascono altre su altri argomenti alle quali si associano di nu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nostra mente formula idee parallelamente su fronti diversi, procedendo secondo un metodo di associ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’ è un ipertest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crittura ipertestuale è una nuova forma espressiva e, in una certa misura, anche un nuovo modo di pensare il sapere, di trattare e rielaborare le informazioni, di organizzare la conoscenza. Esso è fornito di collegamenti che permettono di accedere ad altre parti del testo o ad altri documenti permettendo una consultazione non sequen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’ ipertesto offr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do nuovo e libero di costruire il pens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sibilità di dare spazio alla propria fant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reazione di una rete di testi collegati fra loro da tante connes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Le fasi principal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io: definisce l’area di competenza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zione: crea l’astrazione del prodotto, definendone le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: consolida la fase precedente, formalizzandolo tramite disegni e mode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zzazione: crea il prototipo e lo coll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zione:rilascia il prodo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Costruzione di un ipertes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log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ssi del legame ipertes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tura reticolare dei contenuti (sequenziale, gerarchica, a griglia, a r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sequenzia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nodo introduce i concetti del nodo successivo in modo 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usa quando si desidera eliminare i pericoli della dispersione nella consul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enta sequenza della consultazione può essere vivacizzata dalla possibilità di saltare alcuni n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gerarchic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uo argomento può essere suddiviso in più argomenti secondo una gerarchia “ad alb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nsultazione è facilitata dalla scelta dei percorsi che si diramano divenendo sempre più specif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Arial"/>
              </a:rPr>
              <a:t>Struttura a grig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ntenuti possono essere scomposti secondo due criter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ne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ratific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modo che ogni segmento possa essere visitato “in vertica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ante  Tasso  Ver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Op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r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1:07:10Z</dcterms:created>
  <dc:creator>Los Salseros</dc:creator>
  <dc:description/>
  <dc:language>en-US</dc:language>
  <cp:lastModifiedBy>Studente</cp:lastModifiedBy>
  <dcterms:modified xsi:type="dcterms:W3CDTF">2007-05-29T07:56:12Z</dcterms:modified>
  <cp:revision>3</cp:revision>
  <dc:subject/>
  <dc:title>L’ ipertesto</dc:title>
</cp:coreProperties>
</file>